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428-BAE1-4406-B394-B7D7E093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C7F-CDD7-4D69-B4E3-5A5E4EA6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F1B-5C98-4367-B400-4CE983FC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60F-2136-4283-ABBA-8E18B433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B471-B6A5-4C2D-B92D-26004EEC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8A83-A0BE-4A65-ABBC-A1C8E2C2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1FB1-CF46-46DF-A239-BF52623D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D702-47A7-4EEB-829A-DB4B5579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7D5F-E561-435F-82EB-5AC664DB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67FE-3D62-41DB-B7F7-4265DE9E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C5AE-AC73-4F56-B498-05A98A9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7CD-A5B7-479C-9093-6B4D63E1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8AB0-1972-46E5-89E4-395CCB5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E611-CA0C-441C-94B8-3BF5AE3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16BD-276C-44B2-98C0-EBFDC9C1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F772-C4CA-4BF6-B68C-84F99684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F88B-1836-4AF7-8099-D8558DDB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64C-0EC0-44C9-A785-7FFE7C18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E65-E89D-46B9-A308-4EF098F7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C7B-C205-4D17-BB6C-D6510AD5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46D-D8A0-43FF-9A38-EDBA2214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972-22C0-4BD4-BFA1-649A6DB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39A-404F-4F07-98C3-EA33404C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369-E8D5-4EC4-941F-4582C007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238B-3693-4C55-BFAC-ACAACF1181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556E-FD0B-46EA-BF49-FD6853EF16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tion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aitlynn Lav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ica Sess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some of the elements in Transition Metal these are the most interesting Scandium (Sc) , Titanium  (Ti) , Vanadium (V), Chromium (cr) , Manganese (Mn) , Iron (Fe) , Cobalt (Co) , Nickel (Ni) , Copper (Cu) , Zinc (Zn) , Yttrium  (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052640"/>
            <a:ext cx="3168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s in the mid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conductors of heat and electri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used for jewel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ition metals are able to put up to 32 electrons in their second to last sh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ond with many elements in a variety of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lso one liquids in all the transition metals that are li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electronic configurations in the 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located in the middle of the periodic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elements belonging to I B, II B, III B, IV B, V B, VI B, VII B, VIII B are called transition elements. They resemble each other in several physical and chemical proper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hey are all met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y are called transition elements because they are placed between the most reactive metals on the left and non-metals on the right. Their compounds are col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adium though a transition element, has an electronic configuration that does not agree with the general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4:31:50Z</dcterms:created>
  <dc:creator>tatumadmin</dc:creator>
  <dc:description/>
  <dc:language>en-US</dc:language>
  <cp:lastModifiedBy>tatumadmin</cp:lastModifiedBy>
  <dcterms:modified xsi:type="dcterms:W3CDTF">2009-12-04T14:50:20Z</dcterms:modified>
  <cp:revision>3</cp:revision>
  <dc:subject/>
  <dc:title>Transition Metals</dc:title>
</cp:coreProperties>
</file>